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.jpeg" ContentType="image/jpeg"/>
  <Override PartName="/ppt/media/image10.png" ContentType="image/pn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8BB9-3FE8-4D53-9C8E-9D6B893C8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A2FE-6FC6-4B61-93A0-9FED2721DC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l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AD1-ED83-4C12-9F61-EB1206B603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pa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sha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ld 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42A7-6882-478F-8684-0A114AED6C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wan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A3A-7EC3-45B8-BF30-F79E5BC0E2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spe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A29A-85DF-4A36-B81E-5B76F03BCD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50A-26B6-4184-BF8E-82C100F264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liev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 ri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8E9B-6BAB-458D-82AD-F3AB11CE9C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 b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nge is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30BE-ADBB-4AE2-AC59-BF1362CB92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DF3F-F49D-439B-9B81-69E0490E4C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7662-CE46-4F4F-A7A3-E6F4B02703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E6D5-8B76-4F01-862E-6D84D5E78B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ADA-AC98-4E50-8F30-07DB5B93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A16-8029-4135-893C-98F6E913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859B5-5F26-4CB3-9B6C-63E61E21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8E608-D15F-45AE-B802-389DAEE0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2B13-16C8-484D-90E7-1A59614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78DD3-6EFF-433A-97A3-2F995F33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2D4F0-51CE-4E8B-B6F0-B9ABED24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E9E36-89B3-4D4F-8435-387EAA53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22089-ED38-4BA1-965B-649A0AA8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B0821-CBC6-4A44-A41E-30479677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BECB-7C79-495C-81A4-0BA31431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63CF2-976D-4D0D-A695-F935629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82C-0EBB-4F0F-AF12-4761D099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80F7-818E-47AD-9FDE-F7A6BC45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15FAC-3DC5-4ABE-B97F-389797F4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E2AC4-836F-4E8E-A920-C7A528E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395F5-F071-4AAF-9570-8D65A163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FDD1E-314B-48D6-939A-73C5CC1A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CA13-5CB6-4EE3-8B5B-84297856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A4C80-66D1-4AED-B990-57B65BC4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3373B-8388-493A-8FC9-1E5D655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44477-5200-4CF8-B6E7-3A2A529D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9D74D-3463-400D-9DF6-66544504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C0B-74DF-4DE8-83BE-FD8E6D2F5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A575-D13B-452A-AA6D-43E81117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4A6D2-AFB9-401F-949E-0BBE872A7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6A387-AE0D-488B-8A74-2B8676B3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DC6BE-B20D-4750-894A-5218F06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64A0-327E-4221-826F-1363EB4A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C0F5D-4B2B-400E-8B50-962AADEC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5DD3AB-D642-4CD7-A86B-38EB68C2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EEF10-90CC-4E2C-AD24-38EE5C2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7200-A92E-4190-8EFF-BF0640E5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C697-53C3-43CD-ABD1-17C18DB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EB382-C4AC-4A03-A865-763BF08E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4AA32-AD81-4856-A555-85D39BBF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B2A1-9BFB-4255-9F41-07D22E52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99A07-B77F-4120-A932-36CD9EE6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6AE2F-088B-4BAB-8070-47E64F03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76E59-56C4-4F11-A50F-56234ED1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A0E67-EDF3-4BD3-AFA5-4C3B5C3C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E837-552A-4959-93FE-8F9F7CB3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9BD57-C3F2-49FB-9F45-DBD63C52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6AFF5-A125-450D-B0EC-9F9EDEE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D1942-9745-4978-89CD-7E156A9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47F00-DE93-4A7C-8204-1A37FFC1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44054-563D-4E1D-8988-DCD304A3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091BC-D1C3-4CDA-B348-9BA871739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B4112-37D8-4C09-9055-FEA58BF8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8E2E2-2467-4433-A3F8-16193FF2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801E5-1C2A-4B48-93C1-5A45C6CB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8AF9A-C097-4A13-A980-14582BE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EE42E-962F-4263-9F9C-E68B5491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45963-0A8C-4633-9B6C-B2D3FD7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11897-E9D9-4A7E-A185-6B0AFC7F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6FAA0-B91C-498E-9C6E-7F587D00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B394B-3CE3-4773-8B90-48890C88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2114F-AAFE-47F1-B25C-D1344E6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4F3E7-10C8-417E-AE1B-9620BCEE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A96D0-4717-4C97-8063-F889E0B3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B8C22-EA2E-4EB7-BE98-6334EFE57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83F5D-CB5A-432E-88D8-848DEB5D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D989-0E0C-4782-9B11-AD85CF7F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653B1-E13E-451D-BD6C-28AD20C7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A48D7-086F-4863-9961-18FA4539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E54C9-369E-4260-A9F8-7D5E7C40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4D95D-E085-433B-9184-D7B8FEB2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905BF-DCF5-4886-B945-FCD06032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572D0-976B-436B-9D63-03F6CF9F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3B34A-AF69-47D0-B753-030CBB5F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2A2E8-E851-4A5E-BA0A-3054BC1B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EBC7A-CE08-42CE-85D3-BA70423F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71514-9918-4394-B59B-3F64DEDE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C58A3-F157-4FD0-B23C-5D2D8612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D0386-7855-46C2-8D9F-B817F538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6ED8E-0CEF-4776-96F3-6C778AE1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86E0C-CA04-47E4-B5DA-E4849677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FBF25-4206-4432-B789-AACAEB05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06113-647B-48AE-927F-B8C15C51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BB302-37BA-4432-9862-C49908FD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6BB006-3900-4DA3-9DEC-9BF67C6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6E7C-DDDE-4F6C-B2A4-975998D9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135CC-44EF-44AB-B247-65352F35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50E2A-E808-4829-BBF5-C8DF7EC39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F5BC62-0013-4BC2-9096-74AE4258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C0F4A6-D379-4288-8F2B-4EE3140A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AAFEC-A944-42C3-9D07-CF43EAB0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E177F-3FA5-42E1-B942-839DECDE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93AE10-B3EC-444A-BEC9-84384C42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C9C087-7B97-496C-A9D9-C6A1E0E5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B3C557-11FF-4E28-9947-A86D962B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E7BB6-3E6B-4276-9EDC-2141BC11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8FE5D-A2B2-47BE-8DFD-C0A59455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251DB-CFF7-4407-99B2-6070188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BDC27-BE0C-4FD4-9C65-6608F729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5F145-0AFE-4536-8B5E-F3336556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BD0D1-F4E6-4EB4-AC61-392033C72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64775-BB79-4B79-91EC-FDE66F53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44C219-5D9B-41BF-8EC3-9FCC24BC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11CB5-920C-492A-8715-181783C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AB7E1-A01B-484D-83D8-5EE7D560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C6107-732C-419D-AEC3-88E69E3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00EF4-528F-4920-B6D0-E009C113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7AD09-6698-4E4F-8C21-102A3CAC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20D-FE8A-4A78-B799-045DF4EB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F3C364-30FF-48CA-8298-AB57540E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A841D-8740-4260-9B60-56B22E02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5F819-397C-4056-893C-450C07E8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87A93-B732-4A6F-93B5-93A59C52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30CB1-1ECA-4EFB-B2D1-F20DC04A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EEDAD6-B900-44D9-8704-FF0B5698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79649-A1E7-4121-A61E-68E5C1AD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2D37B-F6D6-4C4F-9E7E-EB32D92E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D1D70-7C2B-48F1-BF65-755865E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9A31B-3F1B-4790-B67B-98685012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227DB7-0805-4064-8A32-A5033762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EEB1F0-8977-4278-8612-249B4CB5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9C14B2-15F5-4143-96BD-60ABED35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88B81-7C44-46C2-A252-499D27C2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5532B1-A27C-46F2-87E1-1088A540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87333-3275-4AE0-8A98-BF0CA497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1D5159-9F0D-4996-AE8B-1E3EBD0B8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F64164-48C8-4859-9EF8-D075A9C10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99CA3-CFEF-48F0-B8CE-16435BB0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48653-941E-4A41-A316-90DFE4A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40EFB-B056-4848-8A72-7E82857B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CEB5E-4007-4D8B-A770-5FE1B3F3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D0B00-B9BD-4037-9FF6-909623F5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20A19-1B4E-484D-940A-153A12D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5AFB1-535E-4080-8F39-2B71A165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3CC5C9-14E9-460B-8085-37F98554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358B3-D02C-46BF-B416-D43786E0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A4863-5EB4-4983-824D-6A4367E9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835DD-3BFF-49B9-BDD0-4A3C39B1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5E8BE-B4A1-4B90-8A17-8D317A74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0736A-F416-419F-9355-74E9B4AA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C84D29-CFB8-4C1F-942C-ED9902EF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362DC-BA7F-41B6-AE3E-E206DC85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34DE4-3F29-4FE8-9F50-99E76CF1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9AF8E-0275-46AD-8295-CF0A6E71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F1207-012D-4028-ABA5-A7E9F49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CA2CD-D084-453C-AA50-B57B6E0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A5ED5-A307-4453-A442-B09BFAE4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EF2E9E-1486-42C8-A38E-5B759D5F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6E6E5-9EB6-440E-86D0-B055BE49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C9D50-13BD-4C2E-B7C8-E58CA865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730C9-463A-40FC-8E52-B705D533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7CE2BA-6103-419F-9B01-A821EBDE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5F6198-29C7-4353-88FF-2F14237D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8E6654-1677-4356-BEEC-60825FC2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42BD1-D011-4EE9-835A-84E32E24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B879C4-8A8F-4CC7-BD6C-1EDF781C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BE0A7D-B2C1-4C73-BB3D-BBD33D93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D645C4-EE1E-4936-A82F-8AF2D19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B8015B-6C63-47F9-9EC5-ED8D079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870E75-AF70-4BE6-9A04-DA408B02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B859E5-CD19-4BD5-A5B0-72D98A6C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3D38B5-04A2-46AC-A0EA-843E922A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BACDF-8749-4388-9786-8A8CCE06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69473-3CC5-4CD7-A529-2ED95851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063A5-E16F-4E88-813E-CD2BCA1F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1E57C-F9F2-4A5E-898B-E0C83E0F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3CD2A7-2F33-43E3-9147-0BA8C0B3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355F8-DD8A-4D78-AAB6-3624015F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2ED97-3C06-4950-BEE4-AD02810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8CBF7A-18B6-4AB2-9FA2-E050696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A4F43-1DC5-45CC-BEB6-FB5BF9B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06E5A-8075-4CC1-9F0A-287258AD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95ED08-617E-4079-8D90-071C1812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4C91C-82DB-4413-AE7B-6E8F7959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9E07DF-E239-4025-8576-3AC46254F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78CD9D-ACC1-4CD7-A090-147C0E9B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9F957A-C59C-43F4-806A-AF41B6EE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CC7F5F-84DE-49B5-B4A3-1803E98A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47B8B-F4E5-4C9C-B4A7-724D979B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8A275C-CF8D-40EA-86B5-A72ADCE7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7509C3-C5AE-41BE-8E8C-D0CE11F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A6B0D-0C72-465E-BC54-7D241036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89178-92EC-4521-97F2-F1BBA4C3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0DCABE-882B-420D-A016-E0DE1097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09E6F-2123-41F8-AE80-E3B32088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570C5F-4CCB-4A3D-8E03-49B61596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AE6E0B-07E4-44C7-88AE-AACD9FEE0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35A323-F84F-4E2E-A944-095B6B12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D5D57-E625-44B9-8C3A-433378CE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AD9FD3-3EC1-4599-9028-E259F0FA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C2155-787D-405B-A017-A4C3926A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049D3A-BE23-4797-8B0F-FCA4CB2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A22B72-A4A8-4051-AC30-589CA4AF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4972F-E134-46CC-AC23-0F5049E2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EC39F8-B679-4DFA-97A2-29DA7531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D5EEEE-5AF3-4199-AE64-FC4E630E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99923-BF6E-4CA1-A895-AA46A1FB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FA4ECC-FCE7-4612-8DEF-FFB62713C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504FFB-4755-45DC-A4D1-DE2BEBB0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F714B8-8D9E-4DBE-A2F0-2E04DF2F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5C7CA7-17D5-439F-BF67-90CB2B70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07BB6C-8E60-4FEC-BC50-D66A412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A5F0A9-81D4-4C89-B777-18D34620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4E64DF-3D55-427C-930E-A9298ABD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530EEE-7708-4450-8DE1-BCC5CCD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81F723-4DC1-4A8D-91A1-2700F70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5B0111-7FF8-4ABF-9DA6-256F6C02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58F5EF-837D-45EF-8773-DB9A86E4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052D1C-850A-4F34-B04C-91575AD2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CA0-344B-4086-B9CC-58768626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E2462D-1835-413F-B99E-66CBADED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187D0B-651D-4959-8BC7-CAE4E77F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4D46A1-CC74-4A8A-8597-E652A2C1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CCAE8-05C5-45B2-BC27-D4319A23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BB8A2C-6237-4C3E-B9FE-534D38E0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129A9E-0DC9-46D9-96D1-B113F1C5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7952F3-5B29-4AE1-B896-1FCD0571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645BB-2754-4CF0-8AFD-F37C8DA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CA6CAB-FBB2-4EFD-804C-50C02E50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E136F9-3622-4B67-AFBF-15042C9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559013-90F5-404C-8D99-43384B76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AB3C8-67BD-4F8D-B331-27104058A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150813-7EF1-4485-8150-5EC04AC2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CDAF4E-B144-470D-B589-1DC2AA15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EDAF62-9DA4-4D37-B66C-040A748F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3B0348-8220-4F9B-8A52-FEB2B539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26D77E-A306-466E-9239-6F827EFB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542C2B-B505-4487-ACC1-70652699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8157C8-D55B-4F04-9802-ACD6F70B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55B6F-52B3-457B-AE55-B391BB9A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CD2864-6258-4856-AC3E-A6BBEB05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30D100-117A-4AA7-8464-F5B5CB3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1C24369-6AEA-4172-A379-4C20B485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3EFCEA-738A-4CF0-BCA6-3E0635D5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860347-4A2B-4C43-B2E5-F26A3C09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08F-AFF3-41C2-932A-38026E2E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A3C7-160A-4E7E-BE13-BA7698B8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FAD-215C-4A07-B95F-C9F56F1D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90F6-B1BC-4AFA-BD19-F6184A8C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10CA-BDE2-4332-8D28-2408806C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7728-180E-474F-9593-B8BE6C0B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2F3C-567E-4F95-AC49-45C35A3C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C360-5318-4760-B539-11053FA8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ED05-B5E1-4AA7-8AF1-27A95061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293A-77A2-40E5-A0DA-BBA0F85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D7D-CE52-44E9-AC68-0D2DA6F5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BCE-88DA-48DE-981A-EAC43AAF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E431-1A8D-471D-BA1F-BA46B33C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433-74CC-4278-9D1A-341E5DC4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8414-80A2-4A7B-ADDF-FF2A5416D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34928-52B8-48EB-9A75-6CCD04AB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31C4-1B0F-4C06-98C0-64A2ABD4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BB2FE-F349-422D-B084-5550E5A4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23FD6-46E3-42F6-B718-1218F46A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9FE3-F64C-4419-9640-09914805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9C8D-AC2B-4150-99E5-84FEC762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3370-00B2-4606-9B9C-4116290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773A5-229C-4359-99ED-346FA80B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B6140-5612-4CDF-915C-91C239EA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C08-CE5F-4EE3-A65E-D228E4B5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AD985-E1D2-4A1B-9BAC-45821259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1A12C-8868-4C7D-94AB-39F2534B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98BB-BD40-4347-B94A-A3067AEB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6931D-977E-41CB-8DC3-A73174ED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5FD88-3AB8-4863-92EF-EE6BECBC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01DC-B8CA-472B-8AAC-FF0F8B6C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922D1-2AD3-4B88-8A39-5796FA03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2953-440B-48CE-9650-2EBADE9A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CDE07-22C9-4300-8F4D-A958058E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52BA4-7CB0-4497-9ED0-3314553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9BC-0BCE-4D77-94CD-A5524009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2331-AD21-428E-AE4B-18A7B6B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EBAF2-8633-4037-A19B-98E95E5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A565-AEF4-4347-BAE5-AB5A2710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9E9D-6FF9-4B27-B48F-21D5BD1E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B9FE-7710-4F3B-8452-8F454F20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CD33A-DB0A-4DD8-9EF9-7279B76C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BE21-216F-4122-8483-96077824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88592-F3E2-4374-99AB-777AA177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243BA-6F1D-48F8-8D56-004E7B4A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6ED5B-3297-476D-A29E-965486B7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0F1-FCD4-4201-A120-84D7025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2CDDE-6A1D-495B-8019-2266B6F3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017E1-339D-4D02-B742-E5E35E95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142DD-95B1-4CF0-BA26-375D9BEF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12E4-C1C0-4E26-9AB6-A78A2F27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C2EC9-0C54-45DE-A0AA-F9DF47DE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D4233-4CC5-4DD2-9FE3-B40C0532E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811D-52BB-4ACB-A003-E0DE58F92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944A7-7D6B-4AA0-B692-F9A91305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7B949-868B-41C4-8CB0-1AA0C670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54882-E727-410B-B09B-B3579B3F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39A5-1678-4B32-828D-496AD06C794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1847-C6E8-4B16-B643-E577199C43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9E75-A35C-4859-97BE-6680662B18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50D-6AC6-4B07-8553-F1A23701EF3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95A3-7F80-4B2F-AF25-A3ADB4EE29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ED6D-21A5-48A9-BEBE-D41E63FD34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7CED-44E5-4178-9516-EF1876E367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A7FC-A075-42DA-BE14-FC0D8E9B2A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2479-3674-4194-8231-FA39C7085C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2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E3A-A390-4953-BC36-4BCC82500CC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165F-9BE8-497C-9316-C09556AEC4E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4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966-E8F7-4EE2-A46E-C0D6E3F9C0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3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3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4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4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5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6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2D42-DD7C-47DB-A19B-FDD562E519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1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2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3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6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C871-52DC-4580-8490-9E6A6062AD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8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9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7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EB17-0935-4877-9965-6EC6399944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4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F334-D6F5-494F-9791-2C195E2F5C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1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2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3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4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F19F-E7E0-4386-95E2-51E99C07F8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9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9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0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0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1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0" name="PlaceHolder 1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F58-553D-43EC-8911-59319AD2B3D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6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6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7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7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8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8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1" name="PlaceHolder 1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0409-CAAE-4EA8-96E1-1C87BA06C4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6E44-200B-40CD-A679-28A540AAC1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A3E2-D72C-4B96-8C1A-B68D229DD0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5C12-148D-4ECF-B337-96E5E74188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4630-0B1B-4CE0-B80A-618F469280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78B-C61F-493E-ADAA-41042912EC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TextBox 6"/>
          <p:cNvSpPr/>
          <p:nvPr/>
        </p:nvSpPr>
        <p:spPr>
          <a:xfrm>
            <a:off x="6400800" y="3886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TextBox 7"/>
          <p:cNvSpPr/>
          <p:nvPr/>
        </p:nvSpPr>
        <p:spPr>
          <a:xfrm>
            <a:off x="6400800" y="4419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9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540" name="Rounded Rectangular Callout 4"/>
          <p:cNvSpPr/>
          <p:nvPr/>
        </p:nvSpPr>
        <p:spPr>
          <a:xfrm>
            <a:off x="5105520" y="3048120"/>
            <a:ext cx="3352680" cy="2666880"/>
          </a:xfrm>
          <a:prstGeom prst="wedgeRoundRectCallout">
            <a:avLst>
              <a:gd name="adj1" fmla="val -101467"/>
              <a:gd name="adj2" fmla="val 8787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167616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ould/woul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= past tense of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</a:rPr>
              <a:t>can/will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5" name="Rectangle 4"/>
          <p:cNvSpPr/>
          <p:nvPr/>
        </p:nvSpPr>
        <p:spPr>
          <a:xfrm>
            <a:off x="533520" y="2209680"/>
            <a:ext cx="807696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thought he will have enough energy for his workout, but skipping breakfast meant that he cannot complete his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6" name="Picture 13" descr="tired.jpg"/>
          <p:cNvPicPr/>
          <p:nvPr/>
        </p:nvPicPr>
        <p:blipFill>
          <a:blip r:embed="rId1"/>
          <a:stretch/>
        </p:blipFill>
        <p:spPr>
          <a:xfrm>
            <a:off x="4419720" y="3789360"/>
            <a:ext cx="3530520" cy="3068640"/>
          </a:xfrm>
          <a:prstGeom prst="rect">
            <a:avLst/>
          </a:prstGeom>
          <a:ln w="0">
            <a:noFill/>
          </a:ln>
        </p:spPr>
      </p:pic>
      <p:sp>
        <p:nvSpPr>
          <p:cNvPr id="1577" name="Rounded Rectangular Callout 9"/>
          <p:cNvSpPr/>
          <p:nvPr/>
        </p:nvSpPr>
        <p:spPr>
          <a:xfrm>
            <a:off x="1905120" y="4800600"/>
            <a:ext cx="2209680" cy="1828800"/>
          </a:xfrm>
          <a:prstGeom prst="wedgeRoundRectCallout">
            <a:avLst>
              <a:gd name="adj1" fmla="val 142685"/>
              <a:gd name="adj2" fmla="val -7716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have ha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8" name="Rectangle 4" descr=""/>
          <p:cNvPicPr/>
          <p:nvPr/>
        </p:nvPicPr>
        <p:blipFill>
          <a:blip r:embed="rId2"/>
          <a:stretch/>
        </p:blipFill>
        <p:spPr>
          <a:xfrm>
            <a:off x="536400" y="2212920"/>
            <a:ext cx="8077320" cy="1596960"/>
          </a:xfrm>
          <a:prstGeom prst="rect">
            <a:avLst/>
          </a:prstGeom>
          <a:ln w="0">
            <a:noFill/>
          </a:ln>
        </p:spPr>
      </p:pic>
      <p:sp>
        <p:nvSpPr>
          <p:cNvPr id="1579" name="Rectangle 4"/>
          <p:cNvSpPr/>
          <p:nvPr/>
        </p:nvSpPr>
        <p:spPr>
          <a:xfrm>
            <a:off x="457200" y="2209680"/>
            <a:ext cx="8229600" cy="1600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ctr">
            <a:noAutofit/>
          </a:bodyPr>
          <a:p>
            <a:pPr marL="351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thought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oul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enough energy for his workout, but skipping breakfast meant that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could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complete his train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Quick Tes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1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2" name="Picture 7" descr="attitude.jpg"/>
          <p:cNvPicPr/>
          <p:nvPr/>
        </p:nvPicPr>
        <p:blipFill>
          <a:blip r:embed="rId1"/>
          <a:stretch/>
        </p:blipFill>
        <p:spPr>
          <a:xfrm>
            <a:off x="6657840" y="3276720"/>
            <a:ext cx="1343160" cy="3581280"/>
          </a:xfrm>
          <a:prstGeom prst="rect">
            <a:avLst/>
          </a:prstGeom>
          <a:ln w="0">
            <a:noFill/>
          </a:ln>
        </p:spPr>
      </p:pic>
      <p:sp>
        <p:nvSpPr>
          <p:cNvPr id="1583" name="Rounded Rectangular Callout 6"/>
          <p:cNvSpPr/>
          <p:nvPr/>
        </p:nvSpPr>
        <p:spPr>
          <a:xfrm>
            <a:off x="2514600" y="4495680"/>
            <a:ext cx="2666880" cy="2057400"/>
          </a:xfrm>
          <a:prstGeom prst="wedgeRoundRectCallout">
            <a:avLst>
              <a:gd name="adj1" fmla="val 125921"/>
              <a:gd name="adj2" fmla="val -7231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think you’re tough? Show m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r tense 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2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5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had frozen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lost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was knocking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TextBox 7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knoc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nt Lillia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froz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r quarts of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megrown strawberries, but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lo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m aft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hurrican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knock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ut power for eigh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y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knoc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9" name="TextBox 3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had been eating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Box 5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TextBox 6"/>
          <p:cNvSpPr/>
          <p:nvPr/>
        </p:nvSpPr>
        <p:spPr>
          <a:xfrm>
            <a:off x="380880" y="1828800"/>
            <a:ext cx="838224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cause Samm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been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ll of the chocolate mint ice cream before she got home, Roxanne whacked him over the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ea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3" name="TextBox 3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pawed at his hair and shook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cannot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TextBox 7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TextBox 8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lo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aw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t his hai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hoo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s head, b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uld 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islodge the giant spider tangl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s cur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pa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sh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ould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5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7" name="TextBox 3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was helping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TextBox 5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Box 6"/>
          <p:cNvSpPr/>
          <p:nvPr/>
        </p:nvSpPr>
        <p:spPr>
          <a:xfrm>
            <a:off x="380880" y="1828800"/>
            <a:ext cx="8382240" cy="3581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ndpa planted a backyard garden, hoping that i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 hel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th the high cost of f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uld hel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1" name="TextBox 3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was a freshman, she want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couldn’t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Box 9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TextBox 10"/>
          <p:cNvSpPr/>
          <p:nvPr/>
        </p:nvSpPr>
        <p:spPr>
          <a:xfrm>
            <a:off x="380880" y="1676520"/>
            <a:ext cx="8382240" cy="48765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Gretch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freshman, 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jor in biology, but after her first rat dissection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ould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hange her major fast en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w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5" name="TextBox 3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is sleeping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TextBox 5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TextBox 6"/>
          <p:cNvSpPr/>
          <p:nvPr/>
        </p:nvSpPr>
        <p:spPr>
          <a:xfrm>
            <a:off x="380880" y="1752480"/>
            <a:ext cx="8305920" cy="4191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 sleep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oundly when Brendan dropped the glass pitcher of lemonade on the stone tiles of the kitchen flo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d been slee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le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sl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9" name="TextBox 3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spent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e thinking that such arrangements are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TextBox 8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 think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Box 9"/>
          <p:cNvSpPr/>
          <p:nvPr/>
        </p:nvSpPr>
        <p:spPr>
          <a:xfrm>
            <a:off x="380880" y="1523880"/>
            <a:ext cx="838224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cient Egyptian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p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ir entire lives prep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eir death and burial. Today, however, peo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thin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such arrangement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morb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impolite to discu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r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uld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3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had carri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Felicia saw the turtle trying to cross the busy road, she leaped out of her car and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carri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e reptile to safety at the other s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carr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r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ca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0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9" descr="muscleman03.jpg"/>
          <p:cNvPicPr/>
          <p:nvPr/>
        </p:nvPicPr>
        <p:blipFill>
          <a:blip r:embed="rId1"/>
          <a:stretch/>
        </p:blipFill>
        <p:spPr>
          <a:xfrm>
            <a:off x="3048120" y="1981080"/>
            <a:ext cx="3047760" cy="478656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ense Shif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3" name="Rounded Rectangular Callout 7"/>
          <p:cNvSpPr/>
          <p:nvPr/>
        </p:nvSpPr>
        <p:spPr>
          <a:xfrm>
            <a:off x="304920" y="2362320"/>
            <a:ext cx="2666880" cy="1981080"/>
          </a:xfrm>
          <a:prstGeom prst="wedgeRoundRectCallout">
            <a:avLst>
              <a:gd name="adj1" fmla="val 104787"/>
              <a:gd name="adj2" fmla="val -30388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use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to maintai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sistenc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Rounded Rectangular Callout 8"/>
          <p:cNvSpPr/>
          <p:nvPr/>
        </p:nvSpPr>
        <p:spPr>
          <a:xfrm>
            <a:off x="6477120" y="2590920"/>
            <a:ext cx="2438280" cy="1523880"/>
          </a:xfrm>
          <a:prstGeom prst="wedgeRoundRectCallout">
            <a:avLst>
              <a:gd name="adj1" fmla="val -113560"/>
              <a:gd name="adj2" fmla="val -3761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th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p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nse inste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3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7" name="TextBox 3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believed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rode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had hit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TextBox 7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had 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TextBox 8"/>
          <p:cNvSpPr/>
          <p:nvPr/>
        </p:nvSpPr>
        <p:spPr>
          <a:xfrm>
            <a:off x="380880" y="1447920"/>
            <a:ext cx="8382240" cy="52578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orge Washingto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believ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hat he was invin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battle.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o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conspicuous white horse tha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de him an easy target, yet no bulle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h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im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alidating his conviction of invulner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 belie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 ri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1" name="TextBox 3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would have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TextBox 5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Box 6"/>
          <p:cNvSpPr/>
          <p:nvPr/>
        </p:nvSpPr>
        <p:spPr>
          <a:xfrm>
            <a:off x="457200" y="1905120"/>
            <a:ext cx="8229600" cy="3886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uld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ite marks on our ankles and scratches on our thighs ever since adopting Nelson, our feisty kit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ll ha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0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4" descr="attitude.jpg"/>
          <p:cNvPicPr/>
          <p:nvPr/>
        </p:nvPicPr>
        <p:blipFill>
          <a:blip r:embed="rId1"/>
          <a:stretch/>
        </p:blipFill>
        <p:spPr>
          <a:xfrm>
            <a:off x="6172200" y="1295280"/>
            <a:ext cx="1828800" cy="4876920"/>
          </a:xfrm>
          <a:prstGeom prst="rect">
            <a:avLst/>
          </a:prstGeom>
          <a:ln w="0">
            <a:noFill/>
          </a:ln>
        </p:spPr>
      </p:pic>
      <p:sp>
        <p:nvSpPr>
          <p:cNvPr id="1546" name="Rounded Rectangular Callout 2"/>
          <p:cNvSpPr/>
          <p:nvPr/>
        </p:nvSpPr>
        <p:spPr>
          <a:xfrm>
            <a:off x="1295280" y="2438280"/>
            <a:ext cx="3353040" cy="2819520"/>
          </a:xfrm>
          <a:prstGeom prst="wedgeRoundRectCallout">
            <a:avLst>
              <a:gd name="adj1" fmla="val 122342"/>
              <a:gd name="adj2" fmla="val -5449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recognizing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propriate verb ten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a give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time fr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914400" y="1523880"/>
            <a:ext cx="731520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tense shift item on an objective test might look like thi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020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9" name="TextBox 3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was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is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ed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TextBox 10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nt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TextBox 11"/>
          <p:cNvSpPr/>
          <p:nvPr/>
        </p:nvSpPr>
        <p:spPr>
          <a:xfrm>
            <a:off x="685800" y="1447920"/>
            <a:ext cx="7772400" cy="50292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King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puppy, he chewed t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furniture. Now that 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 adult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chew the mail carrier most of 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2" name="Picture 17" descr="stare.jpg"/>
          <p:cNvPicPr/>
          <p:nvPr/>
        </p:nvPicPr>
        <p:blipFill>
          <a:blip r:embed="rId1"/>
          <a:srcRect l="0" t="0" r="6708" b="13331"/>
          <a:stretch/>
        </p:blipFill>
        <p:spPr>
          <a:xfrm>
            <a:off x="7391520" y="4178160"/>
            <a:ext cx="1752480" cy="2679840"/>
          </a:xfrm>
          <a:prstGeom prst="rect">
            <a:avLst/>
          </a:prstGeom>
          <a:ln w="0">
            <a:noFill/>
          </a:ln>
        </p:spPr>
      </p:pic>
      <p:sp>
        <p:nvSpPr>
          <p:cNvPr id="1553" name="Rounded Rectangular Callout 18"/>
          <p:cNvSpPr/>
          <p:nvPr/>
        </p:nvSpPr>
        <p:spPr>
          <a:xfrm>
            <a:off x="4191120" y="4114800"/>
            <a:ext cx="2209680" cy="1676520"/>
          </a:xfrm>
          <a:prstGeom prst="wedgeRoundRectCallout">
            <a:avLst>
              <a:gd name="adj1" fmla="val 116500"/>
              <a:gd name="adj2" fmla="val 277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wan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wrong tens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Rounded Rectangular Callout 19"/>
          <p:cNvSpPr/>
          <p:nvPr/>
        </p:nvSpPr>
        <p:spPr>
          <a:xfrm>
            <a:off x="3962520" y="4114800"/>
            <a:ext cx="2438280" cy="1676520"/>
          </a:xfrm>
          <a:prstGeom prst="wedgeRoundRectCallout">
            <a:avLst>
              <a:gd name="adj1" fmla="val 112750"/>
              <a:gd name="adj2" fmla="val 277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Wanted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uld b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present t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a correction opt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k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6304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resent/present perfec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nse to indicate current/regular action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762120" y="3809880"/>
            <a:ext cx="7619760" cy="1371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txBody>
          <a:bodyPr anchor="ctr">
            <a:normAutofit/>
          </a:bodyPr>
          <a:p>
            <a:pPr lvl="1" marL="347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ffrey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goe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o the gym six days a week where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has gaine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t only muscle but also discipline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7" name="Rectangle 3"/>
          <p:cNvSpPr/>
          <p:nvPr/>
        </p:nvSpPr>
        <p:spPr>
          <a:xfrm>
            <a:off x="609480" y="2057400"/>
            <a:ext cx="7925040" cy="1752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resent tens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singular;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Ø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= plur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resent perfect tens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has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or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hav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past partici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8" name="Picture 5" descr="muscleman.jpg"/>
          <p:cNvPicPr/>
          <p:nvPr/>
        </p:nvPicPr>
        <p:blipFill>
          <a:blip r:embed="rId1"/>
          <a:srcRect l="0" t="0" r="6864" b="9375"/>
          <a:stretch/>
        </p:blipFill>
        <p:spPr>
          <a:xfrm>
            <a:off x="7521480" y="4876920"/>
            <a:ext cx="1622520" cy="1981080"/>
          </a:xfrm>
          <a:prstGeom prst="rect">
            <a:avLst/>
          </a:prstGeom>
          <a:ln w="0">
            <a:noFill/>
          </a:ln>
        </p:spPr>
      </p:pic>
      <p:sp>
        <p:nvSpPr>
          <p:cNvPr id="1559" name="Rounded Rectangular Callout 4"/>
          <p:cNvSpPr/>
          <p:nvPr/>
        </p:nvSpPr>
        <p:spPr>
          <a:xfrm>
            <a:off x="2743200" y="5181480"/>
            <a:ext cx="2819520" cy="1371600"/>
          </a:xfrm>
          <a:prstGeom prst="wedgeRoundRectCallout">
            <a:avLst>
              <a:gd name="adj1" fmla="val 148814"/>
              <a:gd name="adj2" fmla="val -141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have gain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tention from women to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0" name="Picture 7" descr="muscleman02.jpg"/>
          <p:cNvPicPr/>
          <p:nvPr/>
        </p:nvPicPr>
        <p:blipFill>
          <a:blip r:embed="rId1"/>
          <a:stretch/>
        </p:blipFill>
        <p:spPr>
          <a:xfrm>
            <a:off x="3124080" y="4653000"/>
            <a:ext cx="2514600" cy="2205000"/>
          </a:xfrm>
          <a:prstGeom prst="rect">
            <a:avLst/>
          </a:prstGeom>
          <a:ln w="0">
            <a:noFill/>
          </a:ln>
        </p:spPr>
      </p:pic>
      <p:sp>
        <p:nvSpPr>
          <p:cNvPr id="1561" name="Rectangle 1027"/>
          <p:cNvSpPr/>
          <p:nvPr/>
        </p:nvSpPr>
        <p:spPr>
          <a:xfrm>
            <a:off x="990720" y="3809880"/>
            <a:ext cx="7086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had lifte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e weights for over an hour before someon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mentione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ip in his sh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076960" cy="17064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ast perfec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 past action that occurred before another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ast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ction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3" name="Rounded Rectangular Callout 4"/>
          <p:cNvSpPr/>
          <p:nvPr/>
        </p:nvSpPr>
        <p:spPr>
          <a:xfrm>
            <a:off x="6248520" y="4952880"/>
            <a:ext cx="2209680" cy="1676520"/>
          </a:xfrm>
          <a:prstGeom prst="wedgeRoundRectCallout">
            <a:avLst>
              <a:gd name="adj1" fmla="val -119648"/>
              <a:gd name="adj2" fmla="val -4525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’s a good thing I have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ute gl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Rectangle 3"/>
          <p:cNvSpPr/>
          <p:nvPr/>
        </p:nvSpPr>
        <p:spPr>
          <a:xfrm>
            <a:off x="685800" y="2057400"/>
            <a:ext cx="7772400" cy="17524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tense:</a:t>
            </a:r>
            <a:r>
              <a:rPr b="0" lang="en-US" sz="26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gular =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e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; irregular forms var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ast perfect tens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had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past particip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5" name="Picture 7" descr="showoff.jpg"/>
          <p:cNvPicPr/>
          <p:nvPr/>
        </p:nvPicPr>
        <p:blipFill>
          <a:blip r:embed="rId1"/>
          <a:stretch/>
        </p:blipFill>
        <p:spPr>
          <a:xfrm>
            <a:off x="3803760" y="4038480"/>
            <a:ext cx="2779560" cy="2819520"/>
          </a:xfrm>
          <a:prstGeom prst="rect">
            <a:avLst/>
          </a:prstGeom>
          <a:ln w="0">
            <a:noFill/>
          </a:ln>
        </p:spPr>
      </p:pic>
      <p:sp>
        <p:nvSpPr>
          <p:cNvPr id="1566" name="Rectangle 1027"/>
          <p:cNvSpPr/>
          <p:nvPr/>
        </p:nvSpPr>
        <p:spPr>
          <a:xfrm>
            <a:off x="914400" y="3200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1144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ffrey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as show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f when he tore a muscle in his shoul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1337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rogressive tens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o indicate an ongoing action that occurs as another action happens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685800" y="2438280"/>
            <a:ext cx="77724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Arial Black"/>
                <a:ea typeface="Arial"/>
              </a:rPr>
              <a:t>Progressive tense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form of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be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verb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 + </a:t>
            </a:r>
            <a:r>
              <a:rPr b="1" lang="en-US" sz="2600" spc="-1" strike="noStrike">
                <a:solidFill>
                  <a:srgbClr val="e46c0a"/>
                </a:solidFill>
                <a:latin typeface="Arial"/>
                <a:ea typeface="Arial"/>
              </a:rPr>
              <a:t>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Rounded Rectangular Callout 4"/>
          <p:cNvSpPr/>
          <p:nvPr/>
        </p:nvSpPr>
        <p:spPr>
          <a:xfrm>
            <a:off x="6400800" y="5029200"/>
            <a:ext cx="1447920" cy="914400"/>
          </a:xfrm>
          <a:prstGeom prst="wedgeRoundRectCallout">
            <a:avLst>
              <a:gd name="adj1" fmla="val -116888"/>
              <a:gd name="adj2" fmla="val -6435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Ouc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1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4001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50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5541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logic permits, you can mix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ast/presen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tenses with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futur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1" name="Text Box 1038"/>
          <p:cNvSpPr/>
          <p:nvPr/>
        </p:nvSpPr>
        <p:spPr>
          <a:xfrm>
            <a:off x="533520" y="1905120"/>
            <a:ext cx="8076960" cy="2057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ent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 gym today, Jeffrey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ill reward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mself with a triple bacon cheeseburger for lunch. After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eighs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mself tomorrow, he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</a:rPr>
              <a:t>will regret</a:t>
            </a:r>
            <a:r>
              <a:rPr b="0" i="1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or food choi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2" name="Picture 5" descr="crunches.jpg"/>
          <p:cNvPicPr/>
          <p:nvPr/>
        </p:nvPicPr>
        <p:blipFill>
          <a:blip r:embed="rId1"/>
          <a:stretch/>
        </p:blipFill>
        <p:spPr>
          <a:xfrm>
            <a:off x="4811760" y="4343400"/>
            <a:ext cx="3036960" cy="2514600"/>
          </a:xfrm>
          <a:prstGeom prst="rect">
            <a:avLst/>
          </a:prstGeom>
          <a:ln w="0">
            <a:noFill/>
          </a:ln>
        </p:spPr>
      </p:pic>
      <p:sp>
        <p:nvSpPr>
          <p:cNvPr id="1573" name="Rounded Rectangular Callout 6"/>
          <p:cNvSpPr/>
          <p:nvPr/>
        </p:nvSpPr>
        <p:spPr>
          <a:xfrm>
            <a:off x="609480" y="4419720"/>
            <a:ext cx="3200400" cy="2133360"/>
          </a:xfrm>
          <a:prstGeom prst="wedgeRoundRectCallout">
            <a:avLst>
              <a:gd name="adj1" fmla="val 118657"/>
              <a:gd name="adj2" fmla="val -305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cause 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dly, I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will h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do more crunches at the gy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</dc:description>
  <cp:keywords>verbs tense shift grammar Grammar Bytes! Robin L. Simmons</cp:keywords>
  <dc:language>en-US</dc:language>
  <cp:lastModifiedBy>Nadia Williams</cp:lastModifiedBy>
  <dcterms:modified xsi:type="dcterms:W3CDTF">2014-03-17T14:54:11Z</dcterms:modified>
  <cp:revision>392</cp:revision>
  <dc:subject/>
  <dc:title>Tense Shif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